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1BE2D-E8DD-4A40-9413-1295C1228D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08389-517C-470B-AF9F-B44843C177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2E876-00F1-4788-906A-768C290EE7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0B062-B66E-4360-8864-8CE205EC17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5FDA6-8496-4045-AC7E-1EBE2145D6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BF02B-6A2D-47BD-9B5C-535F0033CA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04837-E346-489E-B519-2BD137DFB9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607F2-0A7C-4438-9E39-FE60B44777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4526C-8575-4FC5-B996-E334F403BF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8060A-FFBE-4E0E-93C3-81094F259D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5E483-9A89-4EDC-96EA-EBF777ED25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C0973-C638-431F-A833-80E44BFA55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7BBBD-F4A9-46D9-86B2-D788FDBC0B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4745D-30A3-4767-A53F-5D0C4E8DD6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438FC-418F-4A57-9C10-30EA15E79F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24C9A-05B9-4005-A205-84D4743804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33D91-840B-4558-9614-3F4D0E8AB7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3E048-31B6-4552-BC98-0F0B93EE78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654AD-E94B-4C28-8D5B-5B522DBDF3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C95C3-DC7B-453C-8664-652A4A8FF0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A9596-A229-4CEF-8737-4DF083E3BD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061DE-0849-4EEE-A9C2-D0BEB09C1B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1E5E6-913D-4CA9-87DA-6E8E58E78D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8C75F-66CD-46C1-B89F-F3E1BE05AA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22954-B862-417C-A25D-F430FB21CE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17B9C-FEA0-47A4-B06E-101082E3D9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3C256-C97C-4F05-9799-59F2ACCA94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3387D-A683-4139-A7E3-4B6C965EE4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36578-8461-4893-B3C0-BF58F3EAF8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810C0-0609-4874-BC95-10B783BB2B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CC6CD-B6DB-42B3-B97D-8DF97785A7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BDA87-B140-4618-A75C-B7391A7D2B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FCA8-8987-4066-9976-64F32134E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DA8E-8B5E-4B49-BB19-48E685E4B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C710-9205-47D0-B3FF-B7BB0EE46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69B5-0F27-4E71-9F40-75ED12986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38EAC-673B-4981-AEF8-ECEE0D862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C8B33-C359-472F-B6D6-4FA336F21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7EE31-CBB7-44CA-8B4A-AC4B231FD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AEC13-CB7E-4621-AE6D-EE4C23972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34A91-0E10-49B0-8054-C2F81C670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650B7-28B0-4404-859A-30384FA9E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E43F7-903D-4A2B-B499-2086095FE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D83A-900E-4A77-A2DC-5C1A4C845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2EE61-8BE7-42E4-A59A-F21501B7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18B27-07FE-4E41-B873-8DA0BEAF0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7AE98-10D6-4771-A771-8BB59971D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7F6A3-5874-41AA-8FC9-5EA96658F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FF076-7DD1-4D4A-8A0B-32C12C5E5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5198-B1EB-40B7-A599-38EF21AD1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4AF3-9BDF-4562-A1BD-DD244070B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C9FA-60B9-4A5F-B7DD-E3188992C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EF24-41AE-4DC7-8A92-492428DEA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754D-6251-414E-B73C-9869EFC8A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C83C-B43A-499E-ACAC-08E1C270A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6E87-7253-4581-825B-F7B7AE5DD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13384-E6D5-49BA-8EFD-D7DF4405502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1C315-CC0C-4581-9C10-4C8D6FD0C77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chool-Based Budgets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ting, Spending, &amp; Accoun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4419720" y="495288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chool-Based Budgeting:  Players &amp; Resource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77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Princip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p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decisions in an autocratic ma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lve teachers and other employ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with a school-based management council consisting of parents, teachers, community members, classified employee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chool-Based Budgeting:  Players &amp; Resource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stant Princip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olved in planning, spending, and controlling local budgetary fu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ic Dir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/control expenditures within income allocated to purchase music, instruments, uniforms, transportation cost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hletic Dir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 an individual as budget manager for area of athle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all costs related to athletic programs (transportation, coach salaries, officials, uniforms, ticket takers, police, ambulance, doctors, and other expenses for meals and lodgings for athletes and coach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chool-Based Budgeting:  Players &amp; Resource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90920" y="1599840"/>
            <a:ext cx="6248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e Level/Department Chai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dget manager for grade level or depar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ified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od Service Director, Director of Custodial &amp; Maintenance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olve central office staff in determining the needs for their area and make these persons responsible for purchases within the budgetary al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ers/Certified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 an integral, important voice in all aspects of budgetary mat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chool-Based Budgeting:  Players &amp; Resource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ified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pment and supplies necessary to do their support roles efficiently and effectiv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al Office Administ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formation on newly available curriculum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e Off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important 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cates funds, controls expenditures, and accou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have a relationship that is interactive, positive, and produ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chool-Based Budgeting:  Players &amp; Resource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intendent of Sch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s Board of Ed. to approve school site-based 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taining the cooperation of all central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ending the decisions made at the building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tor, innovator, cheerleader, and defender of site-based budg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chool-Based Budgeting:  Players &amp; Resource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ard of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 formal approval to move to a site-based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ince community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end the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 Improvement T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ntucky Education Reform Act of 19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s fairness in schools-base decisions which includes school bu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Needs Assessment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step in defining a gap or discrepancy between what is and what should or could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lve all school building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 each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oriti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a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on Plans to meet identified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es on end products/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Relationships between Central District &amp; Building Site Level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dget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dget Expendi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mp 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dgetary allo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dget Accoun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dget Aud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Decisions made for Building Site Level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 site-based decision m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al District Office based decision m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d budgetary decision making between the school site and central school district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Decisions Related to: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ring and placement of 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dget Planning &amp; Expendi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te level- matters most directly affecting local school’s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 level-Employee benefit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Central &amp; Site Level Mat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ition the board of education to make exceptions or waivers to policies or standard operating procedures for just ca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2484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ources of </a:t>
            </a:r>
            <a:br>
              <a:rPr sz="3600"/>
            </a:b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chool District Incom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362320" y="236232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deral In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egorical 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ck Gr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federal 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w-through m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Budgeting Issue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6248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dgeting Calen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equent school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ed budgets-up to 5 years in the 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ing # of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hort survival method of pupil proj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 of Employees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ch # of students with exact programs they will att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pment, Supplies, Material, &amp;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lacement due to da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Needs Assessmen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activity to take place for future budg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employees take p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ze gaps between what is and what should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oritize identified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ise action programs to eliminate existing gap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Budget Expenditure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dgeting Accounting &amp; Budget Contr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not legally overexpend its available f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priations, transfers, expenditures, encumbrances, &amp; unemcumbered balances should be accurately recorded on a daily ba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Budget Expenditure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dget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nual ba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auditor or Auditing fi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e balance sh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inion on the state of the financial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mendations to the board of education concerning its accounting records &amp;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Basic Functions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e and resource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ation of federal, state, and local fu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cation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man cap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/benefit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nditure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n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ir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ment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s Assess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dg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nditure Contr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oun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di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ase Study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s Ass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is a gap or discrepancy between what is and what should or could b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WIS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ase Study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ing Cost of Identified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ing the cost of each identified need for next 5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ard’s Actions Related to Each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not appro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approved specific program adop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approved with immediate program or budget adjustments made to satisfy n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approved when funding is made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ase Study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ing Student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of students enrolled in each grade for 11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subsequent year’s number of students by previous years’ and grades’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average percentage of survival for the 10 historical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y average % of survival against each previous year to determine the number of students in each future year for each g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ase Study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ing Employee Requirements (5 yrs. Futu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projections of student population to determine employees needed for each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imat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lth insu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act negot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of doing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ase Study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ing Income Requirements (5 years into futu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ed # of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of employees needed in each catego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expenses of school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estimate for operating the sch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DETERMINE income required for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ources of </a:t>
            </a:r>
            <a:br>
              <a:rPr sz="3600"/>
            </a:b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chool District Incom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In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erty ta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es ta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me ta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ndation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y of a minimum millage (mill=.001cents) or dollars per hundred dollars of assessed valuation in order to receive state a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ase Study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hensive School District and School Site-Based Budgeting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xture of parents, citizens, teachers, Princip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nually evaluated and revised 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ase Study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dgeting the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lize budget calen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ions for use to administ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ing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-2 week period in summer &amp; update by Principal and Central Office Administ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ources of </a:t>
            </a:r>
            <a:br>
              <a:rPr sz="3600"/>
            </a:b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chool District Incom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l In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erty ta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es ta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ources of School </a:t>
            </a:r>
            <a:br>
              <a:rPr sz="3600"/>
            </a:b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Building Level Incom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nd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ster groups (Club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drai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3 Keys to Effective </a:t>
            </a:r>
            <a:br>
              <a:rPr sz="3600"/>
            </a:b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Budgetary Planning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ucational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educational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me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 anticipated in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nditure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ch income to programs/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with highest pri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3 Keys to Efficient Budgeting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me-Generation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diture Contr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scal Management Information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u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al Activity Income Collection, Accounting, and Depos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ing Bills to Collect Disc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ero-Sum Budget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unting and Auditing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Types of Budgeting System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/Object Budg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ditures are entered under a coded basic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, Planning, Budgeting, Evaluating System (PPB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ero-Based Budge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end every expenditure requested on the basis of a projected cost/benef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Types of Budgeting System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-Based Budg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cates decision-making power to the level closest to the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olves a variety of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ero-Sum Budg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all persons responsible for budget matters accountable for expenditures decisions and for keeping those decisions within the amount of money alloc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allowing flexibility of expenditure decisions throughout the fiscal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m</dc:creator>
  <dc:description/>
  <dc:language>en-US</dc:language>
  <cp:lastModifiedBy>Jim</cp:lastModifiedBy>
  <dcterms:modified xsi:type="dcterms:W3CDTF">2014-09-04T23:06:39Z</dcterms:modified>
  <cp:revision>33</cp:revision>
  <dc:subject/>
  <dc:title>PowerPoint Presentation</dc:title>
</cp:coreProperties>
</file>